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662-4106-46C4-A863-9CFF782C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A0B-7604-4BAC-973C-BABDFD01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41A-8583-43A2-8DBF-CBC6DA99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BF1-C1D7-4194-8C2E-6D827E05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D6AA-99B6-4575-B06C-98F5D29E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3DB2-510C-4E02-A43E-338E998D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DCF6-CE92-4A20-9F18-E9E14EF7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CC37-B9E8-443A-9FB5-A3F6F00D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B353-6BF8-4ABD-B8F9-1D6591FE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DDAF-D10C-4970-AF91-E2FA7538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2E17-3F5D-4D66-AF01-9D745F09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367-B8F8-4682-A959-6AC42C9F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2F81-B3C4-4BB0-A36C-BEDD67D6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A828-AA95-48DF-BB7F-A36E5EFF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AB90-DBDE-4764-9185-F305B1DD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0FEB-FFF5-47A7-B440-62A0D1FD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ED08-EA06-4DCC-AADA-81A09950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237-ED3A-490B-B7E6-28651F8A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6B8-4C4C-496D-9F7D-507D9667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A01-ACE5-43B9-A05D-91F061D0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F1B-D1D5-446E-96D5-1CDB7DDA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8E9-67E7-4AB5-AEA0-C95C12FC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161-B7AE-48C4-9556-B14777D4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4D4-148B-4AE3-B9CF-6E8DA6D7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B9E9-4804-40EC-8782-9183D87A82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44F4-3C26-462C-B910-9FEC6B9ABF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26.2 Human Impact on 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Land Resourc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on of minerals, farming, and waste disposal can have negative environmental imp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 of Main Ide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s require large amounts of land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raction of resources can disrupt Earth’s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ing populations increase the demand for food and result in increased urba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e, poor forestry practices, and urban development can cause habitat loss, increased erosion, and water pol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impact on land resources can be minimized through the use of modern techniq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ining for Resou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resourc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ron, aluminum, copper, sand, gravel, and limest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ction of these resources often disturbs large areas of Earth’s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water can become polluted, natural habitats can be disturbed or destroyed, and air quality can suff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storing the Lan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la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process in which a mining company restores land used during mining operations to its original contours and replants vege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you this it is important to have legislation that requires mining companies to restore land to its original contou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nderground Mi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ground mining is also called “subsurface mi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ground mining vs. Surface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ground mining is less disruptive to the land surface than surface mining, but it still has impacts on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res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ores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moval of trees from a forested area without adequate replanting, often using clear-cutting, which can result in loss of topsoil and water pol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rban Develop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person in the U.S. generates an average of 5 lbs. of solid waste per d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does this all g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ndfil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per disposal of wastes can result in contamination of land and water resour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gricul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tion and agricultural plants need nutrients from topsoil to g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tilizers can replace lost nutr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ffects of Pestici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stici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hemical applied to plants to kill insects and w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ticides boost food production worldwide by eliminating and controlling organisms that destroy cro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and rain carry pesticides away from farm fields and cause pollution in nearby water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cts can develop a resistance to an insecticide, causing farmers to increase pesticide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serv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 disposal remains a problem because of the immense volume of tra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, Reuse, Recycle to reduce the amount of solid was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ation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oremed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use of organisms and the environments in which they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16:53:26Z</dcterms:created>
  <dc:creator>Dania</dc:creator>
  <dc:description/>
  <dc:language>en-US</dc:language>
  <cp:lastModifiedBy>Dania</cp:lastModifiedBy>
  <dcterms:modified xsi:type="dcterms:W3CDTF">2009-12-20T17:57:31Z</dcterms:modified>
  <cp:revision>2</cp:revision>
  <dc:subject/>
  <dc:title>Human Impact on  Land Resources</dc:title>
</cp:coreProperties>
</file>